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5DE-E81D-4C11-9D17-AB53A8A18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www.mathsrevisi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1FA-3D48-4705-A071-9B53099D04EE}" type="datetime">
              <a:rPr b="0" lang="en-US" sz="12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www.mathsrevisi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381-820D-41B6-BFD4-A792AA3F7FD9}" type="slidenum">
              <a:rPr b="0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have derived the general equation of any circle with centre (a,b) and radius ®, this is given at the top of the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can re-write this equation into a different format given at the bottom of the slid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reason for doing so, is that this format can be much more useful when dealing with certain types of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 get to this equivalent form we multiply out the bracket in our original equ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 we gather each of the different terms togeth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n we equate the LHS of the equation to zero, by subtracting r squared from each 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 then we tidy up the equation further by letting g= - a , f = -b and the constant term c = a squared plus b squared minus r squar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is gives us the equivalent form of the general equation at the bottom of the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ote that in this format the centre is given by (-g, -f ) since a=-g and b=-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lso by rearranging the expression for c we can deduce the formula for the radius 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=square root of g2+f2-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should also be able to write down the equation of a circle given the coordinates of its centre and the length of its rad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AAB-C1CF-4C02-94A9-05EAF92C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ACB-56DA-475D-9283-8B404BA2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3AA-5E0A-449C-9731-C9FA23C3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9DB-6223-4549-A723-802B3906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777-9F41-4C87-B43D-3E64D660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98D-D353-444C-BB19-5A848AF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C42-202C-4B91-9167-33757DBA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AAF-711D-4D30-94A9-4D17D8D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99F5-3CB6-4D8C-AA78-84A43A98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959F-AD1A-41C6-A3CC-6CC375B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97C5-4AD0-448C-A1C1-9018F01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588-DE6B-433B-81BE-C5B322F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4DD-A231-443C-B242-76AF555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290-166C-4E1E-8327-B7067CD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D7E-97FB-4A6C-900A-C8BD7D53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2323-6FD2-47C1-9B69-974852C5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941-C189-4126-A747-05DDCED9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AC3-5D73-4304-89B6-FD4BD7CA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679-5A54-482F-82DB-59027682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62D-FBDE-42B6-9261-C748C01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D82-978D-4AA7-8FFB-B536C768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15F-6950-4F55-A019-5AD09FB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080-CC57-465A-A284-06350F1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C6D-B98F-43DB-8D92-5EB1F9E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AF77-38BC-41FE-9ED3-67C6E4638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8DA-2003-4020-A166-672672CF46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2924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126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eral equation of a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4x - 6y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4x - 6y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9280" y="28526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6920" y="285264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08360" y="2852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33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99640" y="33577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284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47840" y="39337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2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2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 + 9 - 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684360" y="558972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2,3)  and  radius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2x + 8y + 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2x + 8y + 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59640" y="2852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8360" y="285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2852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6720" y="3357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000" y="33577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328464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47840" y="39337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-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4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4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+ 16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468360" y="558972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-1,-4)  and  radius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58920" y="1557360"/>
            <a:ext cx="662616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1773360"/>
            <a:ext cx="74516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ge 17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uild skills  Comple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rcise 3A    Q 1,  Q2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84360" y="47628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–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–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26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a,b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8" descr="What_do_you_see_19.jpg"/>
          <p:cNvPicPr/>
          <p:nvPr/>
        </p:nvPicPr>
        <p:blipFill>
          <a:blip r:embed="rId2"/>
          <a:stretch/>
        </p:blipFill>
        <p:spPr>
          <a:xfrm>
            <a:off x="2916360" y="1052640"/>
            <a:ext cx="5568840" cy="501336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327" name="Rectangle 2"/>
          <p:cNvSpPr/>
          <p:nvPr/>
        </p:nvSpPr>
        <p:spPr>
          <a:xfrm>
            <a:off x="539640" y="1773360"/>
            <a:ext cx="1728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do you se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197000"/>
            <a:ext cx="4105080" cy="1433160"/>
          </a:xfrm>
          <a:prstGeom prst="rect">
            <a:avLst/>
          </a:prstGeom>
          <a:solidFill>
            <a:srgbClr val="b7e7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 circle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– 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– 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without brack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708280"/>
            <a:ext cx="4176720" cy="76464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2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2) + (y – 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 – 3)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213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x + 4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y + 9  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71628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x  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y + 13  - 25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221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4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6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2  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429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2a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2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34936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a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 – a) + (y – b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y – b) =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628640"/>
            <a:ext cx="4176720" cy="52056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92428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2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2by + 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3933720"/>
            <a:ext cx="4176720" cy="106956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 , b and r are constants (numbers) then these can be collected together as one term,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084640"/>
            <a:ext cx="442764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c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981000"/>
            <a:ext cx="4176720" cy="459720"/>
          </a:xfrm>
          <a:prstGeom prst="rect">
            <a:avLst/>
          </a:prstGeom>
          <a:solidFill>
            <a:srgbClr val="b7e7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me way we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941720"/>
            <a:ext cx="3816360" cy="1295640"/>
          </a:xfrm>
          <a:prstGeom prst="cloudCallout">
            <a:avLst>
              <a:gd name="adj1" fmla="val 79740"/>
              <a:gd name="adj2" fmla="val -392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his is the general form of the equation of a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1246320" y="3247920"/>
                <a:ext cx="4084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46320" y="2685960"/>
                <a:ext cx="3655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1246320" y="3811680"/>
                <a:ext cx="37414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1393920" y="4483080"/>
                <a:ext cx="3825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24"/>
          <p:cNvSpPr/>
          <p:nvPr/>
        </p:nvSpPr>
        <p:spPr>
          <a:xfrm>
            <a:off x="1117440" y="1719360"/>
            <a:ext cx="7566120" cy="6523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816200" y="1832040"/>
                <a:ext cx="24937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5"/>
          <p:cNvSpPr/>
          <p:nvPr/>
        </p:nvSpPr>
        <p:spPr>
          <a:xfrm flipV="1" rot="10800000">
            <a:off x="4487760" y="188100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entre 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C(a,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995440" y="178596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adiu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1286280" y="181764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30"/>
          <p:cNvGrpSpPr/>
          <p:nvPr/>
        </p:nvGrpSpPr>
        <p:grpSpPr>
          <a:xfrm>
            <a:off x="1096920" y="5388120"/>
            <a:ext cx="7566120" cy="652320"/>
            <a:chOff x="1096920" y="5388120"/>
            <a:chExt cx="7566120" cy="652320"/>
          </a:xfrm>
        </p:grpSpPr>
        <p:sp>
          <p:nvSpPr>
            <p:cNvPr id="125" name="Rectangle 22"/>
            <p:cNvSpPr/>
            <p:nvPr/>
          </p:nvSpPr>
          <p:spPr>
            <a:xfrm>
              <a:off x="1096920" y="5388120"/>
              <a:ext cx="7566120" cy="652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9"/>
            <p:cNvGrpSpPr/>
            <p:nvPr/>
          </p:nvGrpSpPr>
          <p:grpSpPr>
            <a:xfrm>
              <a:off x="1803600" y="5460840"/>
              <a:ext cx="6684480" cy="459720"/>
              <a:chOff x="1803600" y="5460840"/>
              <a:chExt cx="6684480" cy="459720"/>
            </a:xfrm>
          </p:grpSpPr>
          <p:sp>
            <p:nvSpPr>
              <p:cNvPr id="127" name="Rectangle 19"/>
              <p:cNvSpPr/>
              <p:nvPr/>
            </p:nvSpPr>
            <p:spPr>
              <a:xfrm>
                <a:off x="6312600" y="5460840"/>
                <a:ext cx="98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Radiu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ff33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8" name="Group 21"/>
              <p:cNvGrpSpPr/>
              <p:nvPr/>
            </p:nvGrpSpPr>
            <p:grpSpPr>
              <a:xfrm>
                <a:off x="1803600" y="5501880"/>
                <a:ext cx="6684480" cy="396000"/>
                <a:chOff x="1803600" y="5501880"/>
                <a:chExt cx="6684480" cy="3960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29" name="Object 17"/>
                    <p:cNvSpPr txBox="1"/>
                    <p:nvPr/>
                  </p:nvSpPr>
                  <p:spPr>
                    <a:xfrm>
                      <a:off x="1803600" y="5501880"/>
                      <a:ext cx="2751840" cy="39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g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fy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30" name="Rectangle 18"/>
                <p:cNvSpPr/>
                <p:nvPr/>
              </p:nvSpPr>
              <p:spPr>
                <a:xfrm>
                  <a:off x="4862520" y="5551920"/>
                  <a:ext cx="155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Centre  </a:t>
                  </a:r>
                  <a:r>
                    <a:rPr b="0" lang="en-US" sz="1600" spc="-1" strike="noStrike">
                      <a:solidFill>
                        <a:srgbClr val="ff3300"/>
                      </a:solidFill>
                      <a:latin typeface="Comic Sans MS"/>
                    </a:rPr>
                    <a:t>C(-g,-f)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1" name="Object 20"/>
                    <p:cNvSpPr txBox="1"/>
                    <p:nvPr/>
                  </p:nvSpPr>
                  <p:spPr>
                    <a:xfrm>
                      <a:off x="7232400" y="5516280"/>
                      <a:ext cx="1255680" cy="381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32" name="Rectangle 28"/>
            <p:cNvSpPr/>
            <p:nvPr/>
          </p:nvSpPr>
          <p:spPr>
            <a:xfrm>
              <a:off x="1295280" y="54705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54"/>
          <p:cNvGrpSpPr/>
          <p:nvPr/>
        </p:nvGrpSpPr>
        <p:grpSpPr>
          <a:xfrm>
            <a:off x="1246320" y="4375080"/>
            <a:ext cx="4533840" cy="1014480"/>
            <a:chOff x="1246320" y="4375080"/>
            <a:chExt cx="4533840" cy="1014480"/>
          </a:xfrm>
        </p:grpSpPr>
        <mc:AlternateContent>
          <mc:Choice xmlns:a14="http://schemas.microsoft.com/office/drawing/2010/main" Requires="a14">
            <p:sp>
              <p:nvSpPr>
                <p:cNvPr id="134" name="Object 14"/>
                <p:cNvSpPr txBox="1"/>
                <p:nvPr/>
              </p:nvSpPr>
              <p:spPr>
                <a:xfrm>
                  <a:off x="1246320" y="4984920"/>
                  <a:ext cx="45338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et    g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-a,    f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-b,     c 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 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135" name="Group 48"/>
            <p:cNvGrpSpPr/>
            <p:nvPr/>
          </p:nvGrpSpPr>
          <p:grpSpPr>
            <a:xfrm>
              <a:off x="3549960" y="4375080"/>
              <a:ext cx="1447200" cy="757080"/>
              <a:chOff x="3549960" y="4375080"/>
              <a:chExt cx="1447200" cy="757080"/>
            </a:xfrm>
          </p:grpSpPr>
          <p:sp>
            <p:nvSpPr>
              <p:cNvPr id="136" name="Oval 35"/>
              <p:cNvSpPr/>
              <p:nvPr/>
            </p:nvSpPr>
            <p:spPr>
              <a:xfrm>
                <a:off x="3549960" y="4375080"/>
                <a:ext cx="1447200" cy="52776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36"/>
              <p:cNvSpPr/>
              <p:nvPr/>
            </p:nvSpPr>
            <p:spPr>
              <a:xfrm flipH="1">
                <a:off x="4188240" y="4902840"/>
                <a:ext cx="38520" cy="229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46"/>
            <p:cNvGrpSpPr/>
            <p:nvPr/>
          </p:nvGrpSpPr>
          <p:grpSpPr>
            <a:xfrm>
              <a:off x="2111400" y="4532400"/>
              <a:ext cx="528480" cy="571680"/>
              <a:chOff x="2111400" y="4532400"/>
              <a:chExt cx="528480" cy="571680"/>
            </a:xfrm>
          </p:grpSpPr>
          <p:sp>
            <p:nvSpPr>
              <p:cNvPr id="139" name="Oval 38"/>
              <p:cNvSpPr/>
              <p:nvPr/>
            </p:nvSpPr>
            <p:spPr>
              <a:xfrm>
                <a:off x="2492280" y="4532400"/>
                <a:ext cx="147600" cy="29052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39"/>
              <p:cNvSpPr/>
              <p:nvPr/>
            </p:nvSpPr>
            <p:spPr>
              <a:xfrm>
                <a:off x="2111400" y="4599360"/>
                <a:ext cx="237960" cy="190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40"/>
              <p:cNvSpPr/>
              <p:nvPr/>
            </p:nvSpPr>
            <p:spPr>
              <a:xfrm>
                <a:off x="2568600" y="4822920"/>
                <a:ext cx="0" cy="2811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41"/>
              <p:cNvSpPr/>
              <p:nvPr/>
            </p:nvSpPr>
            <p:spPr>
              <a:xfrm>
                <a:off x="2316240" y="4775400"/>
                <a:ext cx="209520" cy="31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47"/>
            <p:cNvGrpSpPr/>
            <p:nvPr/>
          </p:nvGrpSpPr>
          <p:grpSpPr>
            <a:xfrm>
              <a:off x="2754360" y="4523040"/>
              <a:ext cx="528480" cy="571320"/>
              <a:chOff x="2754360" y="4523040"/>
              <a:chExt cx="528480" cy="571320"/>
            </a:xfrm>
          </p:grpSpPr>
          <p:sp>
            <p:nvSpPr>
              <p:cNvPr id="144" name="Oval 42"/>
              <p:cNvSpPr/>
              <p:nvPr/>
            </p:nvSpPr>
            <p:spPr>
              <a:xfrm>
                <a:off x="3135240" y="4523040"/>
                <a:ext cx="147600" cy="29052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43"/>
              <p:cNvSpPr/>
              <p:nvPr/>
            </p:nvSpPr>
            <p:spPr>
              <a:xfrm>
                <a:off x="2754360" y="4589640"/>
                <a:ext cx="237960" cy="190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44"/>
              <p:cNvSpPr/>
              <p:nvPr/>
            </p:nvSpPr>
            <p:spPr>
              <a:xfrm>
                <a:off x="3211560" y="4813560"/>
                <a:ext cx="0" cy="280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45"/>
              <p:cNvSpPr/>
              <p:nvPr/>
            </p:nvSpPr>
            <p:spPr>
              <a:xfrm>
                <a:off x="2958840" y="4766040"/>
                <a:ext cx="209880" cy="31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52"/>
          <p:cNvGrpSpPr/>
          <p:nvPr/>
        </p:nvGrpSpPr>
        <p:grpSpPr>
          <a:xfrm>
            <a:off x="5281560" y="2739960"/>
            <a:ext cx="3405240" cy="2530440"/>
            <a:chOff x="5281560" y="2739960"/>
            <a:chExt cx="3405240" cy="2530440"/>
          </a:xfrm>
        </p:grpSpPr>
        <p:grpSp>
          <p:nvGrpSpPr>
            <p:cNvPr id="149" name="Group 34"/>
            <p:cNvGrpSpPr/>
            <p:nvPr/>
          </p:nvGrpSpPr>
          <p:grpSpPr>
            <a:xfrm>
              <a:off x="6667560" y="2739960"/>
              <a:ext cx="2019240" cy="2530440"/>
              <a:chOff x="6667560" y="2739960"/>
              <a:chExt cx="2019240" cy="2530440"/>
            </a:xfrm>
          </p:grpSpPr>
          <mc:AlternateContent>
            <mc:Choice xmlns:a14="http://schemas.microsoft.com/office/drawing/2010/main" Requires="a14">
              <p:sp>
                <p:nvSpPr>
                  <p:cNvPr id="150" name="Object 32"/>
                  <p:cNvSpPr txBox="1"/>
                  <p:nvPr/>
                </p:nvSpPr>
                <p:spPr>
                  <a:xfrm>
                    <a:off x="6796080" y="3187800"/>
                    <a:ext cx="1890720" cy="17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 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 </m:t>
                            </m: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g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  <m:e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ra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1" name="Line 33"/>
              <p:cNvSpPr/>
              <p:nvPr/>
            </p:nvSpPr>
            <p:spPr>
              <a:xfrm>
                <a:off x="6667560" y="2739960"/>
                <a:ext cx="0" cy="253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50"/>
            <p:cNvSpPr/>
            <p:nvPr/>
          </p:nvSpPr>
          <p:spPr>
            <a:xfrm flipV="1">
              <a:off x="5281560" y="3471840"/>
              <a:ext cx="1514520" cy="1728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92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the equation of a circle, we can find the coordinates of its centre and the length of its radius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55840" y="191628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010066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068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this to the general form of the equation of a circle of radiu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d on the point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8760" y="401940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440" y="460692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deduce that for the circle with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11760" y="5192640"/>
            <a:ext cx="31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7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88560" y="57801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7) and the radius is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927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hen the equation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circle is given in the fo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55840" y="3886200"/>
            <a:ext cx="671652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nd the centre and the radius of a circle with the equation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+ 4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– 6</a:t>
            </a:r>
            <a:r>
              <a:rPr b="0" i="1" lang="en-US" sz="2400" spc="-1" strike="noStrike">
                <a:solidFill>
                  <a:srgbClr val="ff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8816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by rearranging the equation so that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ms and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ms are tog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34000" y="578016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1459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922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 can use the method of completing the square to write it in th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8760" y="288936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i="1" lang="en-GB" sz="2400" spc="-1" strike="noStrike">
                <a:solidFill>
                  <a:srgbClr val="ffff66"/>
                </a:solidFill>
                <a:latin typeface="Times New Roman"/>
              </a:rPr>
              <a:t>r</a:t>
            </a:r>
            <a:r>
              <a:rPr b="0" lang="en-GB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3080" y="32846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Finding the centre and the radius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e can complete the square for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terms and then for the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term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0081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quation of the circle can now be written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22120" y="186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65200" y="1863720"/>
            <a:ext cx="16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2840" y="243540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243540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42120" y="3699000"/>
            <a:ext cx="44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4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9 + 9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76440" y="42703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5360" y="484344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88560" y="556416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) and the radius i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40" y="76500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093080" y="4869000"/>
            <a:ext cx="187164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981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24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range to get in the general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28920" y="126828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2600" y="285264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  4x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–   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+ 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7080" y="3500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280" y="350028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350028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206064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0" y="2276640"/>
            <a:ext cx="503280" cy="1081080"/>
          </a:xfrm>
          <a:prstGeom prst="ellipse">
            <a:avLst/>
          </a:prstGeom>
          <a:solidFill>
            <a:srgbClr val="ffcc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2349360"/>
            <a:ext cx="647640" cy="1081080"/>
          </a:xfrm>
          <a:prstGeom prst="ellipse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360" y="3933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6920" y="3933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93372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4450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before It therefore follows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280" y="5950080"/>
            <a:ext cx="71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 centre is at the point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3) and the radius i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04200" y="47242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2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2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7640" y="3933720"/>
            <a:ext cx="230508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1916280"/>
            <a:ext cx="2050920" cy="1655640"/>
          </a:xfrm>
          <a:prstGeom prst="cloudCallout">
            <a:avLst>
              <a:gd name="adj1" fmla="val -40944"/>
              <a:gd name="adj2" fmla="val 737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is sum of all the cons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7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6360" y="486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4076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-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54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93080" y="537372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6x + 2y - 7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6x + 2y - 71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9280" y="28526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285264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2852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7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33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000" y="3357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3284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7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48560" y="39337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+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9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+ 1 - -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5092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50920" y="595008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3,-1)  and  radius =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4360" y="5445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11280" y="476280"/>
            <a:ext cx="4321440" cy="431640"/>
          </a:xfrm>
          <a:prstGeom prst="rect">
            <a:avLst/>
          </a:prstGeom>
          <a:solidFill>
            <a:srgbClr val="3366ff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0836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99280" y="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t 2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y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2gx  +  2fy  +  c =  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dnesday, 06 January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6836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how that the equation      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6x - 2y - 1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68360" y="1557360"/>
            <a:ext cx="79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presents a circle and find  the centre and radi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87280" y="23493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y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6x - 2y - 15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59640" y="2852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6920" y="285264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2852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6720" y="33577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99640" y="3357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328464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-1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48200" y="3933720"/>
            <a:ext cx="30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- 3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1)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= 5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421000"/>
            <a:ext cx="2305080" cy="23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852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3500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+ 1 - 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84720" y="4149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900000" y="5013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is now in the form   (x-a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(y-b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684360" y="558972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 represents a circle with centre (-3,1)  and  radius =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72360" y="4581360"/>
            <a:ext cx="1871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15280" y="465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e (-g, -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09-01-07T09:44:12Z</dcterms:modified>
  <cp:revision>23</cp:revision>
  <dc:subject/>
  <dc:title>Higher Circle</dc:title>
</cp:coreProperties>
</file>